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4039850" cy="96012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98880" y="509760"/>
            <a:ext cx="372888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623-E679-4ABA-A62B-30ADEDE5D5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098880" y="509760"/>
            <a:ext cx="3728880" cy="254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5135-BD45-4A17-9A75-F06B5FEB9C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AF2-155D-4B69-82F2-1B79A8F3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119304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55520" y="5783040"/>
            <a:ext cx="119304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C69-EB07-42A7-87B4-9E37FABD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5552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16904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478-DE34-4E7D-9259-1BC34D39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89320" y="277308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22760" y="277308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55520" y="578304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89320" y="578304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22760" y="5783040"/>
            <a:ext cx="38412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9F7-D53B-4787-BB88-FEA0E71E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55520" y="2773080"/>
            <a:ext cx="11930400" cy="57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8D6-F512-49A7-9447-3925D8AB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1193040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DB4-BBAE-4DF6-AEDE-1776027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2C1-26D3-497F-A64C-62141E8D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778-812E-4FA6-8C93-55A722BA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55520" y="852120"/>
            <a:ext cx="11930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C3D-833D-4059-B247-A7E6546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5552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F43-1DDC-4785-BBA2-816DC1DD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69040" y="578304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3AC-599A-47FF-B2D3-41819A7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5552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169040" y="2773080"/>
            <a:ext cx="582192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55520" y="5783040"/>
            <a:ext cx="11930400" cy="274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591-16E0-4679-ACF2-328E71A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5520" y="852120"/>
            <a:ext cx="11930400" cy="160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5520" y="2773080"/>
            <a:ext cx="11930400" cy="5762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4200" indent="-287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0440" indent="-230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55520" y="8748360"/>
            <a:ext cx="2926080" cy="63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95920" y="8748360"/>
            <a:ext cx="4449600" cy="63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059840" y="8748360"/>
            <a:ext cx="2926080" cy="63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56AD-CD50-4BBB-B5EF-07438FE390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20"/>
          <p:cNvSpPr/>
          <p:nvPr/>
        </p:nvSpPr>
        <p:spPr>
          <a:xfrm>
            <a:off x="2301840" y="36720"/>
            <a:ext cx="914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ts val="1324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ОРГАНИЗАЦИОННО-ШТАТНАЯ СТРУКТУРА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24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Главного управления МЧС России по Калужской област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58"/>
          <p:cNvSpPr/>
          <p:nvPr/>
        </p:nvSpPr>
        <p:spPr>
          <a:xfrm>
            <a:off x="190440" y="2252520"/>
            <a:ext cx="1619280" cy="27846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74"/>
          <p:cNvSpPr/>
          <p:nvPr/>
        </p:nvSpPr>
        <p:spPr>
          <a:xfrm>
            <a:off x="1900080" y="2249640"/>
            <a:ext cx="1719360" cy="27874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81"/>
          <p:cNvSpPr/>
          <p:nvPr/>
        </p:nvSpPr>
        <p:spPr>
          <a:xfrm>
            <a:off x="3718080" y="2249640"/>
            <a:ext cx="1658880" cy="37144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>
            <a:off x="2046240" y="2581200"/>
            <a:ext cx="0" cy="209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172"/>
          <p:cNvSpPr/>
          <p:nvPr/>
        </p:nvSpPr>
        <p:spPr>
          <a:xfrm>
            <a:off x="252360" y="2649600"/>
            <a:ext cx="22320" cy="20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370"/>
          <p:cNvSpPr/>
          <p:nvPr/>
        </p:nvSpPr>
        <p:spPr>
          <a:xfrm flipH="1">
            <a:off x="258480" y="264492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371"/>
          <p:cNvSpPr/>
          <p:nvPr/>
        </p:nvSpPr>
        <p:spPr>
          <a:xfrm flipH="1">
            <a:off x="272520" y="313056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372"/>
          <p:cNvSpPr/>
          <p:nvPr/>
        </p:nvSpPr>
        <p:spPr>
          <a:xfrm flipH="1">
            <a:off x="267840" y="363852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377"/>
          <p:cNvSpPr/>
          <p:nvPr/>
        </p:nvSpPr>
        <p:spPr>
          <a:xfrm flipH="1">
            <a:off x="2031480" y="309240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379"/>
          <p:cNvSpPr/>
          <p:nvPr/>
        </p:nvSpPr>
        <p:spPr>
          <a:xfrm flipH="1">
            <a:off x="2031480" y="467532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381"/>
          <p:cNvSpPr/>
          <p:nvPr/>
        </p:nvSpPr>
        <p:spPr>
          <a:xfrm flipH="1">
            <a:off x="2046240" y="2581200"/>
            <a:ext cx="101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84"/>
          <p:cNvSpPr/>
          <p:nvPr/>
        </p:nvSpPr>
        <p:spPr>
          <a:xfrm>
            <a:off x="3825720" y="2637000"/>
            <a:ext cx="16200" cy="30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285"/>
          <p:cNvSpPr/>
          <p:nvPr/>
        </p:nvSpPr>
        <p:spPr>
          <a:xfrm flipH="1">
            <a:off x="3830760" y="265284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149"/>
          <p:cNvSpPr/>
          <p:nvPr/>
        </p:nvSpPr>
        <p:spPr>
          <a:xfrm flipH="1">
            <a:off x="271440" y="42004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171"/>
          <p:cNvSpPr/>
          <p:nvPr/>
        </p:nvSpPr>
        <p:spPr>
          <a:xfrm flipH="1">
            <a:off x="3841920" y="363852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ая соединительная линия 173"/>
          <p:cNvSpPr/>
          <p:nvPr/>
        </p:nvSpPr>
        <p:spPr>
          <a:xfrm flipH="1">
            <a:off x="3833640" y="51228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ая соединительная линия 174"/>
          <p:cNvSpPr/>
          <p:nvPr/>
        </p:nvSpPr>
        <p:spPr>
          <a:xfrm flipH="1">
            <a:off x="3841560" y="464976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ая соединительная линия 175"/>
          <p:cNvSpPr/>
          <p:nvPr/>
        </p:nvSpPr>
        <p:spPr>
          <a:xfrm flipH="1">
            <a:off x="3841560" y="407520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ая соединительная линия 176"/>
          <p:cNvSpPr/>
          <p:nvPr/>
        </p:nvSpPr>
        <p:spPr>
          <a:xfrm flipH="1">
            <a:off x="3841560" y="567360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16"/>
          <p:cNvSpPr/>
          <p:nvPr/>
        </p:nvSpPr>
        <p:spPr>
          <a:xfrm>
            <a:off x="7124760" y="2249640"/>
            <a:ext cx="1701720" cy="33066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228"/>
          <p:cNvSpPr/>
          <p:nvPr/>
        </p:nvSpPr>
        <p:spPr>
          <a:xfrm flipH="1">
            <a:off x="7172280" y="31100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237"/>
          <p:cNvSpPr/>
          <p:nvPr/>
        </p:nvSpPr>
        <p:spPr>
          <a:xfrm flipH="1">
            <a:off x="7167240" y="2523960"/>
            <a:ext cx="1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310"/>
          <p:cNvSpPr/>
          <p:nvPr/>
        </p:nvSpPr>
        <p:spPr>
          <a:xfrm>
            <a:off x="8921880" y="2252520"/>
            <a:ext cx="1582560" cy="2187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316"/>
          <p:cNvSpPr/>
          <p:nvPr/>
        </p:nvSpPr>
        <p:spPr>
          <a:xfrm flipH="1">
            <a:off x="8983800" y="2727360"/>
            <a:ext cx="1440" cy="14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318"/>
          <p:cNvSpPr/>
          <p:nvPr/>
        </p:nvSpPr>
        <p:spPr>
          <a:xfrm flipH="1">
            <a:off x="8994600" y="3648240"/>
            <a:ext cx="90720" cy="2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319"/>
          <p:cNvSpPr/>
          <p:nvPr/>
        </p:nvSpPr>
        <p:spPr>
          <a:xfrm flipH="1">
            <a:off x="8994600" y="30924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ая соединительная линия 320"/>
          <p:cNvSpPr/>
          <p:nvPr/>
        </p:nvSpPr>
        <p:spPr>
          <a:xfrm flipH="1">
            <a:off x="8977320" y="419400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ая соединительная линия 321"/>
          <p:cNvSpPr/>
          <p:nvPr/>
        </p:nvSpPr>
        <p:spPr>
          <a:xfrm flipH="1">
            <a:off x="8983440" y="2727360"/>
            <a:ext cx="8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22"/>
          <p:cNvSpPr/>
          <p:nvPr/>
        </p:nvSpPr>
        <p:spPr>
          <a:xfrm>
            <a:off x="10568160" y="2263680"/>
            <a:ext cx="1628640" cy="21765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ая соединительная линия 327"/>
          <p:cNvSpPr/>
          <p:nvPr/>
        </p:nvSpPr>
        <p:spPr>
          <a:xfrm flipH="1">
            <a:off x="10594440" y="2503440"/>
            <a:ext cx="9720" cy="16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ая соединительная линия 329"/>
          <p:cNvSpPr/>
          <p:nvPr/>
        </p:nvSpPr>
        <p:spPr>
          <a:xfrm flipH="1">
            <a:off x="10604520" y="42004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ая соединительная линия 331"/>
          <p:cNvSpPr/>
          <p:nvPr/>
        </p:nvSpPr>
        <p:spPr>
          <a:xfrm flipH="1">
            <a:off x="10601280" y="31161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ая соединительная линия 334"/>
          <p:cNvSpPr/>
          <p:nvPr/>
        </p:nvSpPr>
        <p:spPr>
          <a:xfrm flipH="1">
            <a:off x="10604160" y="2506680"/>
            <a:ext cx="1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343"/>
          <p:cNvSpPr/>
          <p:nvPr/>
        </p:nvSpPr>
        <p:spPr>
          <a:xfrm flipH="1">
            <a:off x="7173720" y="420048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187"/>
          <p:cNvSpPr/>
          <p:nvPr/>
        </p:nvSpPr>
        <p:spPr>
          <a:xfrm>
            <a:off x="12600000" y="2857680"/>
            <a:ext cx="1263600" cy="809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213"/>
          <p:cNvSpPr/>
          <p:nvPr/>
        </p:nvSpPr>
        <p:spPr>
          <a:xfrm>
            <a:off x="12607920" y="3736800"/>
            <a:ext cx="1246320" cy="7527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7800" y="1247760"/>
          <a:ext cx="1706760" cy="639720"/>
        </p:xfrm>
        <a:graphic>
          <a:graphicData uri="http://schemas.openxmlformats.org/drawingml/2006/table">
            <a:tbl>
              <a:tblPr/>
              <a:tblGrid>
                <a:gridCol w="170676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заместитель начальника Главного управ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335320" y="1249200"/>
          <a:ext cx="1606320" cy="598680"/>
        </p:xfrm>
        <a:graphic>
          <a:graphicData uri="http://schemas.openxmlformats.org/drawingml/2006/table">
            <a:tbl>
              <a:tblPr/>
              <a:tblGrid>
                <a:gridCol w="1606320"/>
              </a:tblGrid>
              <a:tr h="59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 (по гражданской обороне и защите населения) – начальник управления гражданской обороны и защиты насе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265640" y="1247760"/>
          <a:ext cx="1579680" cy="642960"/>
        </p:xfrm>
        <a:graphic>
          <a:graphicData uri="http://schemas.openxmlformats.org/drawingml/2006/table">
            <a:tbl>
              <a:tblPr/>
              <a:tblGrid>
                <a:gridCol w="1579680"/>
              </a:tblGrid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 (по Государственной противопожарной службе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161040" y="1252440"/>
          <a:ext cx="1567080" cy="595440"/>
        </p:xfrm>
        <a:graphic>
          <a:graphicData uri="http://schemas.openxmlformats.org/drawingml/2006/table">
            <a:tbl>
              <a:tblPr/>
              <a:tblGrid>
                <a:gridCol w="1567080"/>
              </a:tblGrid>
              <a:tr h="595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– начальник управления надзорной деятельности и профилактической работ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8024760" y="1244520"/>
          <a:ext cx="1639800" cy="603360"/>
        </p:xfrm>
        <a:graphic>
          <a:graphicData uri="http://schemas.openxmlformats.org/drawingml/2006/table">
            <a:tbl>
              <a:tblPr/>
              <a:tblGrid>
                <a:gridCol w="1639800"/>
              </a:tblGrid>
              <a:tr h="60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начальника Главного управления (по антикризисному управлению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0002960" y="1244520"/>
          <a:ext cx="1611360" cy="603360"/>
        </p:xfrm>
        <a:graphic>
          <a:graphicData uri="http://schemas.openxmlformats.org/drawingml/2006/table">
            <a:tbl>
              <a:tblPr/>
              <a:tblGrid>
                <a:gridCol w="1611360"/>
              </a:tblGrid>
              <a:tr h="60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руководителя территориального орган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902200" y="569880"/>
          <a:ext cx="2125800" cy="558720"/>
        </p:xfrm>
        <a:graphic>
          <a:graphicData uri="http://schemas.openxmlformats.org/drawingml/2006/table">
            <a:tbl>
              <a:tblPr/>
              <a:tblGrid>
                <a:gridCol w="2125800"/>
              </a:tblGrid>
              <a:tr h="55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ого управл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2680" y="2360520"/>
          <a:ext cx="1380960" cy="497160"/>
        </p:xfrm>
        <a:graphic>
          <a:graphicData uri="http://schemas.openxmlformats.org/drawingml/2006/table">
            <a:tbl>
              <a:tblPr/>
              <a:tblGrid>
                <a:gridCol w="1380960"/>
              </a:tblGrid>
              <a:tr h="49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й обороны 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ы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85920" y="3419640"/>
          <a:ext cx="1377720" cy="444240"/>
        </p:xfrm>
        <a:graphic>
          <a:graphicData uri="http://schemas.openxmlformats.org/drawingml/2006/table">
            <a:tbl>
              <a:tblPr/>
              <a:tblGrid>
                <a:gridCol w="1377720"/>
              </a:tblGrid>
              <a:tr h="44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мероприятий гражданской обороны и подготовки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79440" y="3925800"/>
          <a:ext cx="1384200" cy="549360"/>
        </p:xfrm>
        <a:graphic>
          <a:graphicData uri="http://schemas.openxmlformats.org/drawingml/2006/table">
            <a:tbl>
              <a:tblPr/>
              <a:tblGrid>
                <a:gridCol w="1384200"/>
              </a:tblGrid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женерно-технических мероприятий, радиационной, химической, биологической, медицинской защиты и первоочередного жизнеобеспечения насе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141640" y="2360520"/>
          <a:ext cx="1422360" cy="444600"/>
        </p:xfrm>
        <a:graphic>
          <a:graphicData uri="http://schemas.openxmlformats.org/drawingml/2006/table">
            <a:tbl>
              <a:tblPr/>
              <a:tblGrid>
                <a:gridCol w="1422360"/>
              </a:tblGrid>
              <a:tr h="444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пожаротушения и проведения аварийно-спасательных рабо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141640" y="2873520"/>
          <a:ext cx="1422360" cy="473040"/>
        </p:xfrm>
        <a:graphic>
          <a:graphicData uri="http://schemas.openxmlformats.org/drawingml/2006/table">
            <a:tbl>
              <a:tblPr/>
              <a:tblGrid>
                <a:gridCol w="1422360"/>
              </a:tblGrid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организации службы пожарно-спасательных подразделе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155680" y="3403440"/>
          <a:ext cx="1408320" cy="46044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46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и пожаротуш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74600" y="6580080"/>
          <a:ext cx="825480" cy="596880"/>
        </p:xfrm>
        <a:graphic>
          <a:graphicData uri="http://schemas.openxmlformats.org/drawingml/2006/table">
            <a:tbl>
              <a:tblPr/>
              <a:tblGrid>
                <a:gridCol w="825480"/>
              </a:tblGrid>
              <a:tr h="5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жба пожаротушения ФПС ГПС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41640" y="2340000"/>
          <a:ext cx="1351080" cy="465120"/>
        </p:xfrm>
        <a:graphic>
          <a:graphicData uri="http://schemas.openxmlformats.org/drawingml/2006/table">
            <a:tbl>
              <a:tblPr/>
              <a:tblGrid>
                <a:gridCol w="135108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дзорной деятельности и профилактической работ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944880" y="2868480"/>
          <a:ext cx="1347840" cy="478080"/>
        </p:xfrm>
        <a:graphic>
          <a:graphicData uri="http://schemas.openxmlformats.org/drawingml/2006/table">
            <a:tbl>
              <a:tblPr/>
              <a:tblGrid>
                <a:gridCol w="1347840"/>
              </a:tblGrid>
              <a:tr h="47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организации надзорных и профилактических меропри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944880" y="3382920"/>
          <a:ext cx="1347840" cy="450720"/>
        </p:xfrm>
        <a:graphic>
          <a:graphicData uri="http://schemas.openxmlformats.org/drawingml/2006/table">
            <a:tbl>
              <a:tblPr/>
              <a:tblGrid>
                <a:gridCol w="1347840"/>
              </a:tblGrid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надзорных мероприятий в области гражданской обороны, защиты населения и территорий от чрезвычайных ситуац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40200" y="3898800"/>
          <a:ext cx="1352520" cy="414360"/>
        </p:xfrm>
        <a:graphic>
          <a:graphicData uri="http://schemas.openxmlformats.org/drawingml/2006/table">
            <a:tbl>
              <a:tblPr/>
              <a:tblGrid>
                <a:gridCol w="135252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административной практики и дозна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946680" y="4413240"/>
          <a:ext cx="1346040" cy="330120"/>
        </p:xfrm>
        <a:graphic>
          <a:graphicData uri="http://schemas.openxmlformats.org/drawingml/2006/table">
            <a:tbl>
              <a:tblPr/>
              <a:tblGrid>
                <a:gridCol w="13460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нормативно-техническ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944880" y="5459400"/>
          <a:ext cx="1347840" cy="431640"/>
        </p:xfrm>
        <a:graphic>
          <a:graphicData uri="http://schemas.openxmlformats.org/drawingml/2006/table">
            <a:tbl>
              <a:tblPr/>
              <a:tblGrid>
                <a:gridCol w="1347840"/>
              </a:tblGrid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риториальные отделы (отделения) надзорной деятельности и профилактической работ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0153800" y="5370480"/>
          <a:ext cx="874440" cy="455760"/>
        </p:xfrm>
        <a:graphic>
          <a:graphicData uri="http://schemas.openxmlformats.org/drawingml/2006/table">
            <a:tbl>
              <a:tblPr/>
              <a:tblGrid>
                <a:gridCol w="874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безопасности людей на водных объекта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1122200" y="6570720"/>
          <a:ext cx="795240" cy="612720"/>
        </p:xfrm>
        <a:graphic>
          <a:graphicData uri="http://schemas.openxmlformats.org/drawingml/2006/table">
            <a:tbl>
              <a:tblPr/>
              <a:tblGrid>
                <a:gridCol w="795240"/>
              </a:tblGrid>
              <a:tr h="612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 Государственной инспекции по маломерным суда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261200" y="2367000"/>
          <a:ext cx="1463760" cy="490680"/>
        </p:xfrm>
        <a:graphic>
          <a:graphicData uri="http://schemas.openxmlformats.org/drawingml/2006/table">
            <a:tbl>
              <a:tblPr/>
              <a:tblGrid>
                <a:gridCol w="1463760"/>
              </a:tblGrid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материально-технического обеспе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915240" y="7867800"/>
          <a:ext cx="1401840" cy="774720"/>
        </p:xfrm>
        <a:graphic>
          <a:graphicData uri="http://schemas.openxmlformats.org/drawingml/2006/table">
            <a:tbl>
              <a:tblPr/>
              <a:tblGrid>
                <a:gridCol w="1401840"/>
              </a:tblGrid>
              <a:tr h="77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эксплуатационной службы и административно-хозяйственного обеспече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2854160" y="7948440"/>
          <a:ext cx="863280" cy="613080"/>
        </p:xfrm>
        <a:graphic>
          <a:graphicData uri="http://schemas.openxmlformats.org/drawingml/2006/table">
            <a:tbl>
              <a:tblPr/>
              <a:tblGrid>
                <a:gridCol w="863280"/>
              </a:tblGrid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но-технический цент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9066240" y="2343240"/>
          <a:ext cx="1338120" cy="461880"/>
        </p:xfrm>
        <a:graphic>
          <a:graphicData uri="http://schemas.openxmlformats.org/drawingml/2006/table">
            <a:tbl>
              <a:tblPr/>
              <a:tblGrid>
                <a:gridCol w="133812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нансово-экономическое управле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067680" y="3971880"/>
          <a:ext cx="1336680" cy="428760"/>
        </p:xfrm>
        <a:graphic>
          <a:graphicData uri="http://schemas.openxmlformats.org/drawingml/2006/table">
            <a:tbl>
              <a:tblPr/>
              <a:tblGrid>
                <a:gridCol w="1336680"/>
              </a:tblGrid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бухгалтерского учета и отчетнос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069480" y="2874960"/>
          <a:ext cx="1334880" cy="471600"/>
        </p:xfrm>
        <a:graphic>
          <a:graphicData uri="http://schemas.openxmlformats.org/drawingml/2006/table">
            <a:tbl>
              <a:tblPr/>
              <a:tblGrid>
                <a:gridCol w="1334880"/>
              </a:tblGrid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о-экономическ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763640" y="6580080"/>
          <a:ext cx="792360" cy="60984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жарно-спасательный отряд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363840" y="6575400"/>
          <a:ext cx="847800" cy="601560"/>
        </p:xfrm>
        <a:graphic>
          <a:graphicData uri="http://schemas.openxmlformats.org/drawingml/2006/table">
            <a:tbl>
              <a:tblPr/>
              <a:tblGrid>
                <a:gridCol w="84780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жарно-спасательный отряд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216400" y="6548400"/>
          <a:ext cx="795600" cy="628560"/>
        </p:xfrm>
        <a:graphic>
          <a:graphicData uri="http://schemas.openxmlformats.org/drawingml/2006/table">
            <a:tbl>
              <a:tblPr/>
              <a:tblGrid>
                <a:gridCol w="795600"/>
              </a:tblGrid>
              <a:tr h="62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жарно-спасательный отряд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270920" y="6554880"/>
          <a:ext cx="830160" cy="614160"/>
        </p:xfrm>
        <a:graphic>
          <a:graphicData uri="http://schemas.openxmlformats.org/drawingml/2006/table">
            <a:tbl>
              <a:tblPr/>
              <a:tblGrid>
                <a:gridCol w="830160"/>
              </a:tblGrid>
              <a:tr h="61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изированная пожарно-спасательная часть ФПС ГПС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188280" y="6562800"/>
          <a:ext cx="784440" cy="609480"/>
        </p:xfrm>
        <a:graphic>
          <a:graphicData uri="http://schemas.openxmlformats.org/drawingml/2006/table">
            <a:tbl>
              <a:tblPr/>
              <a:tblGrid>
                <a:gridCol w="784440"/>
              </a:tblGrid>
              <a:tr h="60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 управления в кризисных ситуац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265880" y="2897280"/>
          <a:ext cx="1459080" cy="453960"/>
        </p:xfrm>
        <a:graphic>
          <a:graphicData uri="http://schemas.openxmlformats.org/drawingml/2006/table">
            <a:tbl>
              <a:tblPr/>
              <a:tblGrid>
                <a:gridCol w="1459080"/>
              </a:tblGrid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тылового обеспеч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688760" y="2344680"/>
          <a:ext cx="1474560" cy="513000"/>
        </p:xfrm>
        <a:graphic>
          <a:graphicData uri="http://schemas.openxmlformats.org/drawingml/2006/table">
            <a:tbl>
              <a:tblPr/>
              <a:tblGrid>
                <a:gridCol w="1474560"/>
              </a:tblGrid>
              <a:tr h="51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кадровой, воспитательной работы и профессионального обу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693440" y="3948120"/>
          <a:ext cx="1469880" cy="461880"/>
        </p:xfrm>
        <a:graphic>
          <a:graphicData uri="http://schemas.openxmlformats.org/drawingml/2006/table">
            <a:tbl>
              <a:tblPr/>
              <a:tblGrid>
                <a:gridCol w="146988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организационно-штатной работы, учета численности и профессионального обу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688760" y="2898720"/>
          <a:ext cx="1474560" cy="452520"/>
        </p:xfrm>
        <a:graphic>
          <a:graphicData uri="http://schemas.openxmlformats.org/drawingml/2006/table">
            <a:tbl>
              <a:tblPr/>
              <a:tblGrid>
                <a:gridCol w="1474560"/>
              </a:tblGrid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подбора и расстановки кадр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688760" y="3406680"/>
          <a:ext cx="1474560" cy="497160"/>
        </p:xfrm>
        <a:graphic>
          <a:graphicData uri="http://schemas.openxmlformats.org/drawingml/2006/table">
            <a:tbl>
              <a:tblPr/>
              <a:tblGrid>
                <a:gridCol w="1474560"/>
              </a:tblGrid>
              <a:tr h="49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воспитательной работы и профилактики коррупционных нарушен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687480" y="2308320"/>
          <a:ext cx="1081080" cy="41904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419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ридический отде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985240" y="5369040"/>
          <a:ext cx="844560" cy="457200"/>
        </p:xfrm>
        <a:graphic>
          <a:graphicData uri="http://schemas.openxmlformats.org/drawingml/2006/table">
            <a:tbl>
              <a:tblPr/>
              <a:tblGrid>
                <a:gridCol w="844560"/>
              </a:tblGrid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административной работ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677760" y="2949480"/>
          <a:ext cx="1090800" cy="639720"/>
        </p:xfrm>
        <a:graphic>
          <a:graphicData uri="http://schemas.openxmlformats.org/drawingml/2006/table">
            <a:tbl>
              <a:tblPr/>
              <a:tblGrid>
                <a:gridCol w="1090800"/>
              </a:tblGrid>
              <a:tr h="639720"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оперативного планирования, противодействия терроризму и обеспечения антитеррористической защищенност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256520" y="5033880"/>
          <a:ext cx="1468440" cy="487440"/>
        </p:xfrm>
        <a:graphic>
          <a:graphicData uri="http://schemas.openxmlformats.org/drawingml/2006/table">
            <a:tbl>
              <a:tblPr/>
              <a:tblGrid>
                <a:gridCol w="1468440"/>
              </a:tblGrid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медико-психологического обеспеч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152000" y="4654440"/>
          <a:ext cx="876240" cy="468360"/>
        </p:xfrm>
        <a:graphic>
          <a:graphicData uri="http://schemas.openxmlformats.org/drawingml/2006/table">
            <a:tbl>
              <a:tblPr/>
              <a:tblGrid>
                <a:gridCol w="876240"/>
              </a:tblGrid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защиты государственной тайн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700080" y="3825720"/>
          <a:ext cx="1068480" cy="609840"/>
        </p:xfrm>
        <a:graphic>
          <a:graphicData uri="http://schemas.openxmlformats.org/drawingml/2006/table">
            <a:tbl>
              <a:tblPr/>
              <a:tblGrid>
                <a:gridCol w="1068480"/>
              </a:tblGrid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информационного обеспечения деятельности МЧС России (пресс-служба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8799480" y="8005680"/>
          <a:ext cx="1389240" cy="596880"/>
        </p:xfrm>
        <a:graphic>
          <a:graphicData uri="http://schemas.openxmlformats.org/drawingml/2006/table">
            <a:tbl>
              <a:tblPr/>
              <a:tblGrid>
                <a:gridCol w="1389240"/>
              </a:tblGrid>
              <a:tr h="5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по документообороту и делопроизводств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753560" y="8029440"/>
          <a:ext cx="1451160" cy="596880"/>
        </p:xfrm>
        <a:graphic>
          <a:graphicData uri="http://schemas.openxmlformats.org/drawingml/2006/table">
            <a:tbl>
              <a:tblPr/>
              <a:tblGrid>
                <a:gridCol w="1451160"/>
              </a:tblGrid>
              <a:tr h="59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дровой работе с личным состав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929280" y="8723160"/>
          <a:ext cx="1387800" cy="614520"/>
        </p:xfrm>
        <a:graphic>
          <a:graphicData uri="http://schemas.openxmlformats.org/drawingml/2006/table">
            <a:tbl>
              <a:tblPr/>
              <a:tblGrid>
                <a:gridCol w="1387800"/>
              </a:tblGrid>
              <a:tr h="61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по тыловому и техническому обеспечению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88800" y="2890800"/>
          <a:ext cx="1374840" cy="477720"/>
        </p:xfrm>
        <a:graphic>
          <a:graphicData uri="http://schemas.openxmlformats.org/drawingml/2006/table">
            <a:tbl>
              <a:tblPr/>
              <a:tblGrid>
                <a:gridCol w="1374840"/>
              </a:tblGrid>
              <a:tr h="47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защиты населения и территорий от чрезвычайных ситуац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33720" y="4844880"/>
          <a:ext cx="1357560" cy="555840"/>
        </p:xfrm>
        <a:graphic>
          <a:graphicData uri="http://schemas.openxmlformats.org/drawingml/2006/table">
            <a:tbl>
              <a:tblPr/>
              <a:tblGrid>
                <a:gridCol w="1357560"/>
              </a:tblGrid>
              <a:tr h="555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лицензионного контроля, организации контроля за оборотом пожарно-технической продукции и предоставления государственных услу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ая соединительная линия 164"/>
          <p:cNvSpPr/>
          <p:nvPr/>
        </p:nvSpPr>
        <p:spPr>
          <a:xfrm flipH="1">
            <a:off x="10588680" y="36226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66"/>
          <p:cNvSpPr/>
          <p:nvPr/>
        </p:nvSpPr>
        <p:spPr>
          <a:xfrm flipH="1">
            <a:off x="7157880" y="52513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277720" y="4664160"/>
          <a:ext cx="885600" cy="458640"/>
        </p:xfrm>
        <a:graphic>
          <a:graphicData uri="http://schemas.openxmlformats.org/drawingml/2006/table">
            <a:tbl>
              <a:tblPr/>
              <a:tblGrid>
                <a:gridCol w="885600"/>
              </a:tblGrid>
              <a:tr h="458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охраны труд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ая соединительная линия 131"/>
          <p:cNvSpPr/>
          <p:nvPr/>
        </p:nvSpPr>
        <p:spPr>
          <a:xfrm flipH="1">
            <a:off x="2047680" y="3622680"/>
            <a:ext cx="10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54240" y="3933720"/>
          <a:ext cx="1409760" cy="379440"/>
        </p:xfrm>
        <a:graphic>
          <a:graphicData uri="http://schemas.openxmlformats.org/drawingml/2006/table">
            <a:tbl>
              <a:tblPr/>
              <a:tblGrid>
                <a:gridCol w="1409760"/>
              </a:tblGrid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координации пожарной охран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8993160" y="4657680"/>
          <a:ext cx="919080" cy="465120"/>
        </p:xfrm>
        <a:graphic>
          <a:graphicData uri="http://schemas.openxmlformats.org/drawingml/2006/table">
            <a:tbl>
              <a:tblPr/>
              <a:tblGrid>
                <a:gridCol w="91908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мобилизационной подготовки и мобилизац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ик 134"/>
          <p:cNvSpPr/>
          <p:nvPr/>
        </p:nvSpPr>
        <p:spPr>
          <a:xfrm>
            <a:off x="8933040" y="458316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277720" y="5359320"/>
          <a:ext cx="885600" cy="490680"/>
        </p:xfrm>
        <a:graphic>
          <a:graphicData uri="http://schemas.openxmlformats.org/drawingml/2006/table">
            <a:tbl>
              <a:tblPr/>
              <a:tblGrid>
                <a:gridCol w="885600"/>
              </a:tblGrid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внутреннего контроля и ауди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7257960" y="3430440"/>
          <a:ext cx="1467000" cy="471600"/>
        </p:xfrm>
        <a:graphic>
          <a:graphicData uri="http://schemas.openxmlformats.org/drawingml/2006/table">
            <a:tbl>
              <a:tblPr/>
              <a:tblGrid>
                <a:gridCol w="1467000"/>
              </a:tblGrid>
              <a:tr h="4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технического обеспеч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257960" y="3949560"/>
          <a:ext cx="1467000" cy="490680"/>
        </p:xfrm>
        <a:graphic>
          <a:graphicData uri="http://schemas.openxmlformats.org/drawingml/2006/table">
            <a:tbl>
              <a:tblPr/>
              <a:tblGrid>
                <a:gridCol w="1467000"/>
              </a:tblGrid>
              <a:tr h="49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эксплуатации, ремонта зданий, сооружений и развития инфраструктур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ая соединительная линия 177"/>
          <p:cNvSpPr/>
          <p:nvPr/>
        </p:nvSpPr>
        <p:spPr>
          <a:xfrm flipH="1">
            <a:off x="7157880" y="47293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254720" y="4500720"/>
          <a:ext cx="1470240" cy="444240"/>
        </p:xfrm>
        <a:graphic>
          <a:graphicData uri="http://schemas.openxmlformats.org/drawingml/2006/table">
            <a:tbl>
              <a:tblPr/>
              <a:tblGrid>
                <a:gridCol w="1470240"/>
              </a:tblGrid>
              <a:tr h="444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 организации контрактной службы (закупочной деятельности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9072720" y="3402000"/>
          <a:ext cx="1331640" cy="501840"/>
        </p:xfrm>
        <a:graphic>
          <a:graphicData uri="http://schemas.openxmlformats.org/drawingml/2006/table">
            <a:tbl>
              <a:tblPr/>
              <a:tblGrid>
                <a:gridCol w="1331640"/>
              </a:tblGrid>
              <a:tr h="50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начисления заработной платы, денежного довольствия и иных социальных выпла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51440" y="8723160"/>
          <a:ext cx="1425600" cy="614520"/>
        </p:xfrm>
        <a:graphic>
          <a:graphicData uri="http://schemas.openxmlformats.org/drawingml/2006/table">
            <a:tbl>
              <a:tblPr/>
              <a:tblGrid>
                <a:gridCol w="1425600"/>
              </a:tblGrid>
              <a:tr h="614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хранения имущества и тех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1440" y="7953480"/>
          <a:ext cx="1423800" cy="689040"/>
        </p:xfrm>
        <a:graphic>
          <a:graphicData uri="http://schemas.openxmlformats.org/drawingml/2006/table">
            <a:tbl>
              <a:tblPr/>
              <a:tblGrid>
                <a:gridCol w="1423800"/>
              </a:tblGrid>
              <a:tr h="689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еление ФПС ГПС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медицинскому и психологическому обеспечению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753560" y="8804160"/>
          <a:ext cx="1443240" cy="576360"/>
        </p:xfrm>
        <a:graphic>
          <a:graphicData uri="http://schemas.openxmlformats.org/drawingml/2006/table">
            <a:tbl>
              <a:tblPr/>
              <a:tblGrid>
                <a:gridCol w="1443240"/>
              </a:tblGrid>
              <a:tr h="576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кест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907720" y="1246320"/>
          <a:ext cx="1646280" cy="566640"/>
        </p:xfrm>
        <a:graphic>
          <a:graphicData uri="http://schemas.openxmlformats.org/drawingml/2006/table">
            <a:tbl>
              <a:tblPr/>
              <a:tblGrid>
                <a:gridCol w="16462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 руководителя территориального орган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3003200" y="6580080"/>
          <a:ext cx="860400" cy="639720"/>
        </p:xfrm>
        <a:graphic>
          <a:graphicData uri="http://schemas.openxmlformats.org/drawingml/2006/table">
            <a:tbl>
              <a:tblPr/>
              <a:tblGrid>
                <a:gridCol w="86040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организации и контроля применения  беспилотных авиационных систе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88800" y="4530600"/>
          <a:ext cx="1374840" cy="414360"/>
        </p:xfrm>
        <a:graphic>
          <a:graphicData uri="http://schemas.openxmlformats.org/drawingml/2006/table">
            <a:tbl>
              <a:tblPr/>
              <a:tblGrid>
                <a:gridCol w="137484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прогнозирования чрезвычайных ситуац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53" name="Прямая соединительная линия 151"/>
          <p:cNvSpPr/>
          <p:nvPr/>
        </p:nvSpPr>
        <p:spPr>
          <a:xfrm flipH="1">
            <a:off x="287280" y="47433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80"/>
          <p:cNvSpPr/>
          <p:nvPr/>
        </p:nvSpPr>
        <p:spPr>
          <a:xfrm>
            <a:off x="5464080" y="2252520"/>
            <a:ext cx="1568520" cy="16956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8"/>
          <p:cNvSpPr/>
          <p:nvPr/>
        </p:nvSpPr>
        <p:spPr>
          <a:xfrm>
            <a:off x="5499000" y="2610000"/>
            <a:ext cx="180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89"/>
          <p:cNvSpPr/>
          <p:nvPr/>
        </p:nvSpPr>
        <p:spPr>
          <a:xfrm flipH="1">
            <a:off x="5500800" y="3673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190"/>
          <p:cNvSpPr/>
          <p:nvPr/>
        </p:nvSpPr>
        <p:spPr>
          <a:xfrm flipH="1">
            <a:off x="5492880" y="310356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195"/>
          <p:cNvSpPr/>
          <p:nvPr/>
        </p:nvSpPr>
        <p:spPr>
          <a:xfrm flipH="1">
            <a:off x="5500800" y="2610000"/>
            <a:ext cx="10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603760" y="3452760"/>
          <a:ext cx="1417680" cy="451080"/>
        </p:xfrm>
        <a:graphic>
          <a:graphicData uri="http://schemas.openxmlformats.org/drawingml/2006/table">
            <a:tbl>
              <a:tblPr/>
              <a:tblGrid>
                <a:gridCol w="1417680"/>
              </a:tblGrid>
              <a:tr h="451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 информационных технологий, эксплуатации средств связи и ЭВ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8804160" y="8864640"/>
          <a:ext cx="1384560" cy="585720"/>
        </p:xfrm>
        <a:graphic>
          <a:graphicData uri="http://schemas.openxmlformats.org/drawingml/2006/table">
            <a:tbl>
              <a:tblPr/>
              <a:tblGrid>
                <a:gridCol w="1384560"/>
              </a:tblGrid>
              <a:tr h="58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 ФПС ГПС по обеспечению связ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610240" y="2897280"/>
          <a:ext cx="1398600" cy="453960"/>
        </p:xfrm>
        <a:graphic>
          <a:graphicData uri="http://schemas.openxmlformats.org/drawingml/2006/table">
            <a:tbl>
              <a:tblPr/>
              <a:tblGrid>
                <a:gridCol w="1398600"/>
              </a:tblGrid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дел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развития связ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608800" y="2355840"/>
          <a:ext cx="1400040" cy="449280"/>
        </p:xfrm>
        <a:graphic>
          <a:graphicData uri="http://schemas.openxmlformats.org/drawingml/2006/table">
            <a:tbl>
              <a:tblPr/>
              <a:tblGrid>
                <a:gridCol w="1400040"/>
              </a:tblGrid>
              <a:tr h="44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информационных технологий и связ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155680" y="4417920"/>
          <a:ext cx="1408320" cy="4651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465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1104840"/>
                          <a:tab algn="l" pos="2209680"/>
                          <a:tab algn="l" pos="3314880"/>
                          <a:tab algn="l" pos="4419720"/>
                          <a:tab algn="l" pos="5524560"/>
                          <a:tab algn="l" pos="6629400"/>
                          <a:tab algn="l" pos="7734240"/>
                          <a:tab algn="l" pos="8839080"/>
                          <a:tab algn="l" pos="994428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координации деятельности аварийно-спасательных формирова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8be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182"/>
          <p:cNvSpPr/>
          <p:nvPr/>
        </p:nvSpPr>
        <p:spPr>
          <a:xfrm>
            <a:off x="189000" y="1982880"/>
            <a:ext cx="13696920" cy="218880"/>
          </a:xfrm>
          <a:prstGeom prst="rect">
            <a:avLst/>
          </a:prstGeom>
          <a:solidFill>
            <a:srgbClr val="dcf8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 П А Р А Т   У П Р А В Л Е Н И 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ая соединительная линия 186"/>
          <p:cNvSpPr/>
          <p:nvPr/>
        </p:nvSpPr>
        <p:spPr>
          <a:xfrm flipH="1">
            <a:off x="2031840" y="41576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191"/>
          <p:cNvSpPr/>
          <p:nvPr/>
        </p:nvSpPr>
        <p:spPr>
          <a:xfrm flipH="1">
            <a:off x="3830760" y="309420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ая соединительная линия 192"/>
          <p:cNvSpPr/>
          <p:nvPr/>
        </p:nvSpPr>
        <p:spPr>
          <a:xfrm flipH="1">
            <a:off x="7165800" y="367344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205"/>
          <p:cNvSpPr/>
          <p:nvPr/>
        </p:nvSpPr>
        <p:spPr>
          <a:xfrm>
            <a:off x="12617280" y="2249640"/>
            <a:ext cx="1236960" cy="5554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207"/>
          <p:cNvSpPr/>
          <p:nvPr/>
        </p:nvSpPr>
        <p:spPr>
          <a:xfrm>
            <a:off x="10072800" y="457848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208"/>
          <p:cNvSpPr/>
          <p:nvPr/>
        </p:nvSpPr>
        <p:spPr>
          <a:xfrm>
            <a:off x="10072800" y="529596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209"/>
          <p:cNvSpPr/>
          <p:nvPr/>
        </p:nvSpPr>
        <p:spPr>
          <a:xfrm>
            <a:off x="11206080" y="4575240"/>
            <a:ext cx="99072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10"/>
          <p:cNvSpPr/>
          <p:nvPr/>
        </p:nvSpPr>
        <p:spPr>
          <a:xfrm>
            <a:off x="11206080" y="5291280"/>
            <a:ext cx="990720" cy="5997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211"/>
          <p:cNvSpPr/>
          <p:nvPr/>
        </p:nvSpPr>
        <p:spPr>
          <a:xfrm>
            <a:off x="117360" y="6510240"/>
            <a:ext cx="96372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212"/>
          <p:cNvSpPr/>
          <p:nvPr/>
        </p:nvSpPr>
        <p:spPr>
          <a:xfrm>
            <a:off x="12949200" y="6507000"/>
            <a:ext cx="963720" cy="773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218"/>
          <p:cNvSpPr/>
          <p:nvPr/>
        </p:nvSpPr>
        <p:spPr>
          <a:xfrm>
            <a:off x="1671480" y="6510240"/>
            <a:ext cx="963720" cy="773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220"/>
          <p:cNvSpPr/>
          <p:nvPr/>
        </p:nvSpPr>
        <p:spPr>
          <a:xfrm>
            <a:off x="3314880" y="6513480"/>
            <a:ext cx="963360" cy="7732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221"/>
          <p:cNvSpPr/>
          <p:nvPr/>
        </p:nvSpPr>
        <p:spPr>
          <a:xfrm>
            <a:off x="5156280" y="6483240"/>
            <a:ext cx="96516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222"/>
          <p:cNvSpPr/>
          <p:nvPr/>
        </p:nvSpPr>
        <p:spPr>
          <a:xfrm>
            <a:off x="7215120" y="6488280"/>
            <a:ext cx="965160" cy="7729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24"/>
          <p:cNvSpPr/>
          <p:nvPr/>
        </p:nvSpPr>
        <p:spPr>
          <a:xfrm>
            <a:off x="9115560" y="6497640"/>
            <a:ext cx="96516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225"/>
          <p:cNvSpPr/>
          <p:nvPr/>
        </p:nvSpPr>
        <p:spPr>
          <a:xfrm>
            <a:off x="12804840" y="7867800"/>
            <a:ext cx="96372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226"/>
          <p:cNvSpPr/>
          <p:nvPr/>
        </p:nvSpPr>
        <p:spPr>
          <a:xfrm>
            <a:off x="11028240" y="6497640"/>
            <a:ext cx="965160" cy="7747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ая соединительная линия 230"/>
          <p:cNvSpPr/>
          <p:nvPr/>
        </p:nvSpPr>
        <p:spPr>
          <a:xfrm flipH="1">
            <a:off x="12398400" y="2610000"/>
            <a:ext cx="15840" cy="64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ая соединительная линия 231"/>
          <p:cNvSpPr/>
          <p:nvPr/>
        </p:nvSpPr>
        <p:spPr>
          <a:xfrm>
            <a:off x="12204720" y="8358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ая соединительная линия 256"/>
          <p:cNvSpPr/>
          <p:nvPr/>
        </p:nvSpPr>
        <p:spPr>
          <a:xfrm>
            <a:off x="12201480" y="90914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257"/>
          <p:cNvSpPr/>
          <p:nvPr/>
        </p:nvSpPr>
        <p:spPr>
          <a:xfrm>
            <a:off x="8921880" y="5300640"/>
            <a:ext cx="990360" cy="6001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Прямая со стрелкой 47"/>
          <p:cNvCxnSpPr/>
          <p:nvPr/>
        </p:nvCxnSpPr>
        <p:spPr>
          <a:xfrm flipH="1">
            <a:off x="9062280" y="5826240"/>
            <a:ext cx="3960" cy="21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Прямая соединительная линия 266"/>
          <p:cNvSpPr/>
          <p:nvPr/>
        </p:nvSpPr>
        <p:spPr>
          <a:xfrm flipV="1">
            <a:off x="6377040" y="9027720"/>
            <a:ext cx="270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ая соединительная линия 268"/>
          <p:cNvSpPr/>
          <p:nvPr/>
        </p:nvSpPr>
        <p:spPr>
          <a:xfrm>
            <a:off x="6377040" y="826596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276"/>
          <p:cNvSpPr/>
          <p:nvPr/>
        </p:nvSpPr>
        <p:spPr>
          <a:xfrm>
            <a:off x="4878360" y="7848720"/>
            <a:ext cx="3571920" cy="160020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78"/>
          <p:cNvSpPr/>
          <p:nvPr/>
        </p:nvSpPr>
        <p:spPr>
          <a:xfrm>
            <a:off x="8710560" y="7867800"/>
            <a:ext cx="1584360" cy="82368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279"/>
          <p:cNvSpPr/>
          <p:nvPr/>
        </p:nvSpPr>
        <p:spPr>
          <a:xfrm>
            <a:off x="10665000" y="7867800"/>
            <a:ext cx="1643040" cy="160632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ая соединительная линия 60"/>
          <p:cNvSpPr/>
          <p:nvPr/>
        </p:nvSpPr>
        <p:spPr>
          <a:xfrm flipH="1">
            <a:off x="12162960" y="260208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ая соединительная линия 287"/>
          <p:cNvSpPr/>
          <p:nvPr/>
        </p:nvSpPr>
        <p:spPr>
          <a:xfrm flipH="1">
            <a:off x="5498640" y="5931000"/>
            <a:ext cx="311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ая соединительная линия 288"/>
          <p:cNvSpPr/>
          <p:nvPr/>
        </p:nvSpPr>
        <p:spPr>
          <a:xfrm flipH="1" flipV="1">
            <a:off x="8604000" y="9156600"/>
            <a:ext cx="199800" cy="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289"/>
          <p:cNvSpPr/>
          <p:nvPr/>
        </p:nvSpPr>
        <p:spPr>
          <a:xfrm>
            <a:off x="8724960" y="8740800"/>
            <a:ext cx="1584360" cy="803160"/>
          </a:xfrm>
          <a:prstGeom prst="rect">
            <a:avLst/>
          </a:prstGeom>
          <a:noFill/>
          <a:ln w="93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ая соединительная линия 291"/>
          <p:cNvSpPr/>
          <p:nvPr/>
        </p:nvSpPr>
        <p:spPr>
          <a:xfrm flipH="1">
            <a:off x="8591040" y="5931000"/>
            <a:ext cx="1908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229"/>
          <p:cNvSpPr/>
          <p:nvPr/>
        </p:nvSpPr>
        <p:spPr>
          <a:xfrm>
            <a:off x="106200" y="7421400"/>
            <a:ext cx="13806720" cy="276480"/>
          </a:xfrm>
          <a:prstGeom prst="rect">
            <a:avLst/>
          </a:prstGeom>
          <a:solidFill>
            <a:srgbClr val="ff66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ДЕЛЕНИЯ ОБЕСПЕЧЕНИЯ, ОБСЛУЖИВАЮЩИЕ  И ВСПОМОГАТЕЛЬНЫЕ ПОДРАЗДЕЛ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184"/>
          <p:cNvSpPr/>
          <p:nvPr/>
        </p:nvSpPr>
        <p:spPr>
          <a:xfrm>
            <a:off x="117360" y="6107040"/>
            <a:ext cx="13806720" cy="22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ИРУЮЩИЕ ПОДРАЗДЕЛ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165"/>
          <p:cNvSpPr/>
          <p:nvPr/>
        </p:nvSpPr>
        <p:spPr>
          <a:xfrm flipH="1">
            <a:off x="7149960" y="2521080"/>
            <a:ext cx="7920" cy="35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167"/>
          <p:cNvSpPr/>
          <p:nvPr/>
        </p:nvSpPr>
        <p:spPr>
          <a:xfrm>
            <a:off x="7151760" y="6334200"/>
            <a:ext cx="0" cy="10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178"/>
          <p:cNvSpPr/>
          <p:nvPr/>
        </p:nvSpPr>
        <p:spPr>
          <a:xfrm flipH="1">
            <a:off x="6647040" y="782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179"/>
          <p:cNvSpPr/>
          <p:nvPr/>
        </p:nvSpPr>
        <p:spPr>
          <a:xfrm>
            <a:off x="6647040" y="7821720"/>
            <a:ext cx="0" cy="120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ая соединительная линия 193"/>
          <p:cNvSpPr/>
          <p:nvPr/>
        </p:nvSpPr>
        <p:spPr>
          <a:xfrm flipH="1">
            <a:off x="6646680" y="8255160"/>
            <a:ext cx="26820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202"/>
          <p:cNvSpPr/>
          <p:nvPr/>
        </p:nvSpPr>
        <p:spPr>
          <a:xfrm flipH="1">
            <a:off x="6629400" y="902808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81"/>
          <p:cNvSpPr/>
          <p:nvPr/>
        </p:nvSpPr>
        <p:spPr>
          <a:xfrm>
            <a:off x="7149960" y="7697880"/>
            <a:ext cx="1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5:13:47Z</dcterms:created>
  <dc:creator>МЧС России</dc:creator>
  <dc:description/>
  <dc:language>en-US</dc:language>
  <cp:lastModifiedBy>kadr1</cp:lastModifiedBy>
  <cp:lastPrinted>2020-01-20T12:18:23Z</cp:lastPrinted>
  <dcterms:modified xsi:type="dcterms:W3CDTF">2020-01-20T12:30:36Z</dcterms:modified>
  <cp:revision>1188</cp:revision>
  <dc:subject/>
  <dc:title>Презентация PowerPoint</dc:title>
</cp:coreProperties>
</file>